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2.jpeg" ContentType="image/jpeg"/>
  <Override PartName="/ppt/media/image36.jpeg" ContentType="image/jpeg"/>
  <Override PartName="/ppt/media/image25.jpeg" ContentType="image/jpeg"/>
  <Override PartName="/ppt/media/image31.jpeg" ContentType="image/jpeg"/>
  <Override PartName="/ppt/media/image10.wmf" ContentType="image/x-wmf"/>
  <Override PartName="/ppt/media/image6.png" ContentType="image/png"/>
  <Override PartName="/ppt/media/image1.jpeg" ContentType="image/jpeg"/>
  <Override PartName="/ppt/media/image7.png" ContentType="image/png"/>
  <Override PartName="/ppt/media/image34.jpeg" ContentType="image/jpeg"/>
  <Override PartName="/ppt/media/image13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15.png" ContentType="image/png"/>
  <Override PartName="/ppt/media/image33.jpeg" ContentType="image/jpeg"/>
  <Override PartName="/ppt/media/image38.jpeg" ContentType="image/jpeg"/>
  <Override PartName="/ppt/media/image8.jpeg" ContentType="image/jpeg"/>
  <Override PartName="/ppt/media/image29.jpeg" ContentType="image/jpeg"/>
  <Override PartName="/ppt/media/image5.png" ContentType="image/png"/>
  <Override PartName="/ppt/media/image35.png" ContentType="image/png"/>
  <Override PartName="/ppt/media/image26.jpeg" ContentType="image/jpeg"/>
  <Override PartName="/ppt/media/image4.png" ContentType="image/png"/>
  <Override PartName="/ppt/media/image12.png" ContentType="image/png"/>
  <Override PartName="/ppt/media/image23.jpeg" ContentType="image/jpeg"/>
  <Override PartName="/ppt/media/image14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648450" cy="9805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649200" cy="980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14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2"/>
          </p:nvPr>
        </p:nvSpPr>
        <p:spPr>
          <a:xfrm>
            <a:off x="3767040" y="-360"/>
            <a:ext cx="28814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873000" y="734760"/>
            <a:ext cx="4903920" cy="367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885960" y="4657320"/>
            <a:ext cx="487656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3"/>
          </p:nvPr>
        </p:nvSpPr>
        <p:spPr>
          <a:xfrm>
            <a:off x="0" y="9315000"/>
            <a:ext cx="28814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4"/>
          </p:nvPr>
        </p:nvSpPr>
        <p:spPr>
          <a:xfrm>
            <a:off x="3767040" y="9315000"/>
            <a:ext cx="28814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E88B-DC62-4D70-9525-8061C32E6D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873000" y="735120"/>
            <a:ext cx="4903920" cy="36781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885960" y="4657320"/>
            <a:ext cx="4876560" cy="441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灯片编号占位符 3"/>
          <p:cNvSpPr/>
          <p:nvPr/>
        </p:nvSpPr>
        <p:spPr>
          <a:xfrm>
            <a:off x="3767040" y="9315360"/>
            <a:ext cx="28814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B681-CA01-4606-AB62-6C97922DB3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873000" y="735120"/>
            <a:ext cx="4903920" cy="36781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885960" y="4657320"/>
            <a:ext cx="4876560" cy="441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灯片编号占位符 3"/>
          <p:cNvSpPr/>
          <p:nvPr/>
        </p:nvSpPr>
        <p:spPr>
          <a:xfrm>
            <a:off x="3767040" y="9315360"/>
            <a:ext cx="28814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43CB-44FC-4881-A90C-74C5F70123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873000" y="735120"/>
            <a:ext cx="4903920" cy="36781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885960" y="4657320"/>
            <a:ext cx="4876560" cy="441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灯片编号占位符 3"/>
          <p:cNvSpPr/>
          <p:nvPr/>
        </p:nvSpPr>
        <p:spPr>
          <a:xfrm>
            <a:off x="3767040" y="9315360"/>
            <a:ext cx="28814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ACC4-A6C6-45CF-BDB4-AB589379A6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FD4E3-6D0B-45BB-A66E-D615B57706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78A97-C0D7-4ED3-980F-6E84D6BA33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9448C-0EF4-45B7-98B7-5BD5DEB62E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4C58F-D2B1-4DD0-B97F-315D626639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B8BBA-ABB5-4625-818A-CBAA6D05BC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01AAD-8509-48B1-BD5C-D25DAA59597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D4871-F9A9-4EC0-B1A6-930D52C7C2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3A694-3E58-4F52-9EED-B6489CF423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2575D-4725-4B85-888B-A967E8A904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DE4FA-A0E1-4D5A-8640-89D3D4B61E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3D2F4-F601-4979-87E9-96B76FD5F6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7AE54-81BF-474E-8AFC-970E7956BA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3"/>
          <p:cNvSpPr/>
          <p:nvPr/>
        </p:nvSpPr>
        <p:spPr>
          <a:xfrm>
            <a:off x="1219320" y="6629400"/>
            <a:ext cx="6019560" cy="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Group 5"/>
          <p:cNvGrpSpPr/>
          <p:nvPr/>
        </p:nvGrpSpPr>
        <p:grpSpPr>
          <a:xfrm>
            <a:off x="0" y="246240"/>
            <a:ext cx="990000" cy="744120"/>
            <a:chOff x="0" y="246240"/>
            <a:chExt cx="990000" cy="744120"/>
          </a:xfrm>
        </p:grpSpPr>
        <p:grpSp>
          <p:nvGrpSpPr>
            <p:cNvPr id="2" name="Group 6"/>
            <p:cNvGrpSpPr/>
            <p:nvPr/>
          </p:nvGrpSpPr>
          <p:grpSpPr>
            <a:xfrm>
              <a:off x="249480" y="246240"/>
              <a:ext cx="610920" cy="393840"/>
              <a:chOff x="249480" y="246240"/>
              <a:chExt cx="610920" cy="393840"/>
            </a:xfrm>
          </p:grpSpPr>
          <p:sp>
            <p:nvSpPr>
              <p:cNvPr id="3" name="Rectangle 7"/>
              <p:cNvSpPr/>
              <p:nvPr/>
            </p:nvSpPr>
            <p:spPr>
              <a:xfrm>
                <a:off x="249480" y="246240"/>
                <a:ext cx="377280" cy="393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" name="Rectangle 8"/>
              <p:cNvSpPr/>
              <p:nvPr/>
            </p:nvSpPr>
            <p:spPr>
              <a:xfrm>
                <a:off x="578520" y="246240"/>
                <a:ext cx="281880" cy="393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" name="Group 9"/>
            <p:cNvGrpSpPr/>
            <p:nvPr/>
          </p:nvGrpSpPr>
          <p:grpSpPr>
            <a:xfrm>
              <a:off x="356040" y="596520"/>
              <a:ext cx="633960" cy="393840"/>
              <a:chOff x="356040" y="596520"/>
              <a:chExt cx="633960" cy="393840"/>
            </a:xfrm>
          </p:grpSpPr>
          <p:sp>
            <p:nvSpPr>
              <p:cNvPr id="6" name="Rectangle 10"/>
              <p:cNvSpPr/>
              <p:nvPr/>
            </p:nvSpPr>
            <p:spPr>
              <a:xfrm>
                <a:off x="356040" y="596520"/>
                <a:ext cx="363960" cy="393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Rectangle 11"/>
              <p:cNvSpPr/>
              <p:nvPr/>
            </p:nvSpPr>
            <p:spPr>
              <a:xfrm>
                <a:off x="673920" y="596520"/>
                <a:ext cx="316080" cy="393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8" name="Rectangle 12"/>
            <p:cNvSpPr/>
            <p:nvPr/>
          </p:nvSpPr>
          <p:spPr>
            <a:xfrm>
              <a:off x="0" y="536040"/>
              <a:ext cx="481680" cy="349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" name="Rectangle 13"/>
          <p:cNvSpPr/>
          <p:nvPr/>
        </p:nvSpPr>
        <p:spPr>
          <a:xfrm flipV="1">
            <a:off x="457200" y="532440"/>
            <a:ext cx="8534520" cy="759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sldNum" idx="1"/>
          </p:nvPr>
        </p:nvSpPr>
        <p:spPr>
          <a:xfrm>
            <a:off x="7848720" y="647712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4A78-12DA-47C3-9FAA-5CDE96BA28B3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2546280"/>
            <a:ext cx="1151640" cy="897120"/>
            <a:chOff x="0" y="2546280"/>
            <a:chExt cx="1151640" cy="897120"/>
          </a:xfrm>
        </p:grpSpPr>
        <p:grpSp>
          <p:nvGrpSpPr>
            <p:cNvPr id="50" name="Group 3"/>
            <p:cNvGrpSpPr/>
            <p:nvPr/>
          </p:nvGrpSpPr>
          <p:grpSpPr>
            <a:xfrm>
              <a:off x="292320" y="2546280"/>
              <a:ext cx="709200" cy="474840"/>
              <a:chOff x="292320" y="2546280"/>
              <a:chExt cx="70920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2320" y="2546280"/>
                <a:ext cx="43632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4280" y="2546280"/>
                <a:ext cx="32724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5440" y="2968560"/>
              <a:ext cx="736200" cy="474840"/>
              <a:chOff x="415440" y="2968560"/>
              <a:chExt cx="73620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5440" y="2968560"/>
                <a:ext cx="4208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3360" y="2968560"/>
                <a:ext cx="3682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2895480"/>
              <a:ext cx="5580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Rectangle 10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Rectangle 11"/>
          <p:cNvSpPr/>
          <p:nvPr/>
        </p:nvSpPr>
        <p:spPr>
          <a:xfrm flipV="1">
            <a:off x="316080" y="3260520"/>
            <a:ext cx="8692920" cy="5544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Line 3"/>
          <p:cNvSpPr/>
          <p:nvPr/>
        </p:nvSpPr>
        <p:spPr>
          <a:xfrm>
            <a:off x="1219320" y="6629400"/>
            <a:ext cx="6019560" cy="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" name="Group 5"/>
          <p:cNvGrpSpPr/>
          <p:nvPr/>
        </p:nvGrpSpPr>
        <p:grpSpPr>
          <a:xfrm>
            <a:off x="0" y="246240"/>
            <a:ext cx="990000" cy="744120"/>
            <a:chOff x="0" y="246240"/>
            <a:chExt cx="990000" cy="744120"/>
          </a:xfrm>
        </p:grpSpPr>
        <p:grpSp>
          <p:nvGrpSpPr>
            <p:cNvPr id="99" name="Group 6"/>
            <p:cNvGrpSpPr/>
            <p:nvPr/>
          </p:nvGrpSpPr>
          <p:grpSpPr>
            <a:xfrm>
              <a:off x="249480" y="246240"/>
              <a:ext cx="610920" cy="393840"/>
              <a:chOff x="249480" y="246240"/>
              <a:chExt cx="610920" cy="393840"/>
            </a:xfrm>
          </p:grpSpPr>
          <p:sp>
            <p:nvSpPr>
              <p:cNvPr id="100" name="Rectangle 7"/>
              <p:cNvSpPr/>
              <p:nvPr/>
            </p:nvSpPr>
            <p:spPr>
              <a:xfrm>
                <a:off x="249480" y="246240"/>
                <a:ext cx="377280" cy="393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8"/>
              <p:cNvSpPr/>
              <p:nvPr/>
            </p:nvSpPr>
            <p:spPr>
              <a:xfrm>
                <a:off x="578520" y="246240"/>
                <a:ext cx="281880" cy="393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" name="Group 9"/>
            <p:cNvGrpSpPr/>
            <p:nvPr/>
          </p:nvGrpSpPr>
          <p:grpSpPr>
            <a:xfrm>
              <a:off x="356040" y="596520"/>
              <a:ext cx="633960" cy="393840"/>
              <a:chOff x="356040" y="596520"/>
              <a:chExt cx="633960" cy="393840"/>
            </a:xfrm>
          </p:grpSpPr>
          <p:sp>
            <p:nvSpPr>
              <p:cNvPr id="103" name="Rectangle 10"/>
              <p:cNvSpPr/>
              <p:nvPr/>
            </p:nvSpPr>
            <p:spPr>
              <a:xfrm>
                <a:off x="356040" y="596520"/>
                <a:ext cx="363960" cy="393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11"/>
              <p:cNvSpPr/>
              <p:nvPr/>
            </p:nvSpPr>
            <p:spPr>
              <a:xfrm>
                <a:off x="673920" y="596520"/>
                <a:ext cx="316080" cy="393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05" name="Rectangle 12"/>
            <p:cNvSpPr/>
            <p:nvPr/>
          </p:nvSpPr>
          <p:spPr>
            <a:xfrm>
              <a:off x="0" y="536040"/>
              <a:ext cx="481680" cy="349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6" name="Rectangle 13"/>
          <p:cNvSpPr/>
          <p:nvPr/>
        </p:nvSpPr>
        <p:spPr>
          <a:xfrm flipV="1">
            <a:off x="457200" y="532440"/>
            <a:ext cx="8534520" cy="759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185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ahoma"/>
              </a:rPr>
              <a:t>厂内机动车辆驾驶安全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1042920" y="3573360"/>
            <a:ext cx="26719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01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C EH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4343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99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ahoma"/>
              </a:rPr>
              <a:t>作业安全管理</a:t>
            </a:r>
            <a:endParaRPr b="1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铲车铲运货物的长度以车宽为准，货物的宽度应短于铲齿的长度。货物高度应低于司机视平角。对于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超宽超高等影响驾驶员视线，则要有专人指挥或倒车鸣笛缓慢稳定行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铲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不得高于地面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30c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以上行驶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，升降时铲脚下面严禁站人，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停车时要把铲脚放到地面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禁止将货物悬吊在空中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运载货物时，应以最稳妥的行驶速度进行下坡转弯。货物开始起升或降落时，其速度不应过快，以免机件早期损坏铲车。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斜坡路面不得转向掉头，上坡时要前进，下坡时要倒行；严禁在超过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度的坡路上载货横向行驶。经常通行的斜坡应做防滑措施，雨雪天要增加路面的防滑措施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下坡行驶时发动机不准熄灭，不准分离离合器，变速箱不应为空挡，并经常点刹车。转弯时先减低车速，而在急转弯时应换入低速挡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Picture 4" descr="car3"/>
          <p:cNvPicPr/>
          <p:nvPr/>
        </p:nvPicPr>
        <p:blipFill>
          <a:blip r:embed="rId1"/>
          <a:stretch/>
        </p:blipFill>
        <p:spPr>
          <a:xfrm>
            <a:off x="6948360" y="620640"/>
            <a:ext cx="16560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厂内车辆驾驶“十不准 </a:t>
            </a: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不准违反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叉车安全作业规范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野蛮驾驶和装卸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不准无叉车驾驶证人员及无安全鞋、安全帽时驾驶叉车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不准驾驶转向、制动、喇叭等存在问题的叉车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厂内速度不准超过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km/h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，转弯、路口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3km/h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车辆不准载人，叉齿下不准站人，或人利用叉齿上下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车辆驾驶中不准接听电话、交谈、听音乐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驾驶人员不得离开运转中的车辆，不得未拔下钥匙时离开车辆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不得与行人抢道、争行或多辆叉车并行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驾驶中不得急启动、急转弯、急刹车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不准叉（拖）运重量不明或捆扎不牢物品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驾驶中不准放弃安全带不用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2" name="Picture 4" descr="store3"/>
          <p:cNvPicPr/>
          <p:nvPr/>
        </p:nvPicPr>
        <p:blipFill>
          <a:blip r:embed="rId1"/>
          <a:stretch/>
        </p:blipFill>
        <p:spPr>
          <a:xfrm>
            <a:off x="876240" y="4076640"/>
            <a:ext cx="3048120" cy="23716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car3"/>
          <p:cNvPicPr/>
          <p:nvPr/>
        </p:nvPicPr>
        <p:blipFill>
          <a:blip r:embed="rId2"/>
          <a:stretch/>
        </p:blipFill>
        <p:spPr>
          <a:xfrm>
            <a:off x="539640" y="981000"/>
            <a:ext cx="3679920" cy="2943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car8"/>
          <p:cNvPicPr/>
          <p:nvPr/>
        </p:nvPicPr>
        <p:blipFill>
          <a:blip r:embed="rId3"/>
          <a:stretch/>
        </p:blipFill>
        <p:spPr>
          <a:xfrm>
            <a:off x="4427640" y="988920"/>
            <a:ext cx="403200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214200" y="928800"/>
          <a:ext cx="8715600" cy="5715000"/>
        </p:xfrm>
        <a:graphic>
          <a:graphicData uri="http://schemas.openxmlformats.org/drawingml/2006/table">
            <a:tbl>
              <a:tblPr/>
              <a:tblGrid>
                <a:gridCol w="698760"/>
                <a:gridCol w="4087800"/>
                <a:gridCol w="1285920"/>
                <a:gridCol w="2643120"/>
              </a:tblGrid>
              <a:tr h="66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作业类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事故经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伤害情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事故现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09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叉车搬运作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68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2008.3.25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：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50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左右，三幸美洁员工谈某（女）从女厕所出来靠墙一侧向东走，叉车工蒋某（男）驾驶叉车在后方向东行进，没有鸣笛提醒，谈没有观察后方是否有车辆，转向横穿通道去收集垃圾，叉车刹车不及，左前轮从谈右脚压过，导致谈右脚三脚趾压断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68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右脚三脚趾压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68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685"/>
                    </a:solidFill>
                  </a:tcPr>
                </a:tc>
              </a:tr>
              <a:tr h="295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叉车搬运作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2005.5.10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23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：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30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左右，铲车工孙某（男）驾驶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8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号空夹包车从南向北以正常速度行驶，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A/C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品质课员工钱某（男）从西向东奔跑时，没注意从侧面门口驶出的夹包车，因速度较快正好撞在夹包车夹板上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鉴定为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5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级工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</a:tbl>
          </a:graphicData>
        </a:graphic>
      </p:graphicFrame>
      <p:pic>
        <p:nvPicPr>
          <p:cNvPr id="206" name="Picture 3" descr="2-1"/>
          <p:cNvPicPr/>
          <p:nvPr/>
        </p:nvPicPr>
        <p:blipFill>
          <a:blip r:embed="rId1"/>
          <a:stretch/>
        </p:blipFill>
        <p:spPr>
          <a:xfrm>
            <a:off x="6357960" y="1643040"/>
            <a:ext cx="2500200" cy="20001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DSCN5521"/>
          <p:cNvPicPr/>
          <p:nvPr/>
        </p:nvPicPr>
        <p:blipFill>
          <a:blip r:embed="rId2"/>
          <a:stretch/>
        </p:blipFill>
        <p:spPr>
          <a:xfrm>
            <a:off x="6357960" y="3786120"/>
            <a:ext cx="25002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214200" y="928800"/>
          <a:ext cx="8715600" cy="5715000"/>
        </p:xfrm>
        <a:graphic>
          <a:graphicData uri="http://schemas.openxmlformats.org/drawingml/2006/table">
            <a:tbl>
              <a:tblPr/>
              <a:tblGrid>
                <a:gridCol w="698760"/>
                <a:gridCol w="4087800"/>
                <a:gridCol w="1285920"/>
                <a:gridCol w="2643120"/>
              </a:tblGrid>
              <a:tr h="66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作业类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事故经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伤害情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事故现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09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叉车搬运作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68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06.5.16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上午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10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：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00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左右，左某（男）在成品仓库盘点，当其站在东西通道北侧路边，面对西北部准备转身向南面走动时，左脚后部被从通道南侧倒车的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27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号叉车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《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赵某（男）驾驶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》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车轮刮住后摔倒在地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68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左腓骨撕脱性骨折。（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7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级工伤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68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685"/>
                    </a:solidFill>
                  </a:tcPr>
                </a:tc>
              </a:tr>
              <a:tr h="295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台车装运作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2005.5.23 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在装好空台车启动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时，没有将空台车固定，台车滑动将车厢尾的人员推落在地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头部重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</a:tbl>
          </a:graphicData>
        </a:graphic>
      </p:graphicFrame>
      <p:pic>
        <p:nvPicPr>
          <p:cNvPr id="209" name="Picture 5" descr="SV100038"/>
          <p:cNvPicPr/>
          <p:nvPr/>
        </p:nvPicPr>
        <p:blipFill>
          <a:blip r:embed="rId1"/>
          <a:stretch/>
        </p:blipFill>
        <p:spPr>
          <a:xfrm>
            <a:off x="6357960" y="1643040"/>
            <a:ext cx="2500200" cy="2000160"/>
          </a:xfrm>
          <a:prstGeom prst="rect">
            <a:avLst/>
          </a:prstGeom>
          <a:ln w="0">
            <a:noFill/>
          </a:ln>
        </p:spPr>
      </p:pic>
      <p:pic>
        <p:nvPicPr>
          <p:cNvPr id="210" name="图片 8" descr="STA60052.JPG"/>
          <p:cNvPicPr/>
          <p:nvPr/>
        </p:nvPicPr>
        <p:blipFill>
          <a:blip r:embed="rId2"/>
          <a:stretch/>
        </p:blipFill>
        <p:spPr>
          <a:xfrm>
            <a:off x="6357960" y="3786120"/>
            <a:ext cx="25002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214200" y="928800"/>
          <a:ext cx="8715600" cy="5715000"/>
        </p:xfrm>
        <a:graphic>
          <a:graphicData uri="http://schemas.openxmlformats.org/drawingml/2006/table">
            <a:tbl>
              <a:tblPr/>
              <a:tblGrid>
                <a:gridCol w="698760"/>
                <a:gridCol w="4087800"/>
                <a:gridCol w="1285920"/>
                <a:gridCol w="2643120"/>
              </a:tblGrid>
              <a:tr h="66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作业类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事故经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伤害情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事故现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09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叉车搬运作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68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叉车倒车时未注意后面作业的人员，将作业人员挤压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68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轻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68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685"/>
                    </a:solidFill>
                  </a:tcPr>
                </a:tc>
              </a:tr>
              <a:tr h="295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叉车装运作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2010.5.5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19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：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00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左右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, 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员工戚某（男）在驾驶夹包车堆放洗衣机时，因堆放不当（货物间留下超过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10cm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间隙），在货堆北侧用夹包将洗衣机向南推移调整时，最南侧的第四层一台洗衣机倒下，砸到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A/C WAC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产品技术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P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包装检人员徐某（女）背部，徐头磕到电脑桌锐利边缘致伤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轻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</a:tbl>
          </a:graphicData>
        </a:graphic>
      </p:graphicFrame>
      <p:pic>
        <p:nvPicPr>
          <p:cNvPr id="212" name="图片 13" descr="SV102727.JPG"/>
          <p:cNvPicPr/>
          <p:nvPr/>
        </p:nvPicPr>
        <p:blipFill>
          <a:blip r:embed="rId1"/>
          <a:stretch/>
        </p:blipFill>
        <p:spPr>
          <a:xfrm>
            <a:off x="6357960" y="3786120"/>
            <a:ext cx="2494080" cy="27860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7" descr="SV100786"/>
          <p:cNvPicPr/>
          <p:nvPr/>
        </p:nvPicPr>
        <p:blipFill>
          <a:blip r:embed="rId2"/>
          <a:stretch/>
        </p:blipFill>
        <p:spPr>
          <a:xfrm>
            <a:off x="6084720" y="1773360"/>
            <a:ext cx="244980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灯片编号占位符 1"/>
          <p:cNvSpPr/>
          <p:nvPr/>
        </p:nvSpPr>
        <p:spPr>
          <a:xfrm>
            <a:off x="7848720" y="6477120"/>
            <a:ext cx="1295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0F5E-F130-4934-9264-28D760A4809F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Picture 2" descr="STA60052"/>
          <p:cNvPicPr/>
          <p:nvPr/>
        </p:nvPicPr>
        <p:blipFill>
          <a:blip r:embed="rId1"/>
          <a:stretch/>
        </p:blipFill>
        <p:spPr>
          <a:xfrm>
            <a:off x="4286160" y="642960"/>
            <a:ext cx="4405320" cy="314316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4" descr="维修前照片1.JPG"/>
          <p:cNvPicPr/>
          <p:nvPr/>
        </p:nvPicPr>
        <p:blipFill>
          <a:blip r:embed="rId2"/>
          <a:stretch/>
        </p:blipFill>
        <p:spPr>
          <a:xfrm>
            <a:off x="28440" y="3857760"/>
            <a:ext cx="4114800" cy="278604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5" descr="20120222(009).jpg"/>
          <p:cNvPicPr/>
          <p:nvPr/>
        </p:nvPicPr>
        <p:blipFill>
          <a:blip r:embed="rId3"/>
          <a:stretch/>
        </p:blipFill>
        <p:spPr>
          <a:xfrm>
            <a:off x="4214880" y="3857760"/>
            <a:ext cx="4357800" cy="284004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7" descr="YP20120314144203.jpg"/>
          <p:cNvPicPr/>
          <p:nvPr/>
        </p:nvPicPr>
        <p:blipFill>
          <a:blip r:embed="rId4"/>
          <a:stretch/>
        </p:blipFill>
        <p:spPr>
          <a:xfrm>
            <a:off x="71280" y="571680"/>
            <a:ext cx="4071960" cy="321444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3"/>
          <p:cNvSpPr/>
          <p:nvPr/>
        </p:nvSpPr>
        <p:spPr>
          <a:xfrm>
            <a:off x="611280" y="-142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Tahoma"/>
                <a:ea typeface="宋体"/>
              </a:rPr>
              <a:t>叉车使用中的事故案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3886200" y="1617840"/>
            <a:ext cx="52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ff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亲爱的朋友，你知道人的一生可能会遇到多少次可能伤害事件吗？事故统计学的科学答案是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以上。有的人比较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幸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他均能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逢凶化吉，化险为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所遇到的事故都是未遂事故，而有的人却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倒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成为了事故的牺牲品。其实，幸运与倒霉并不是命中注定的，在某种程度上是可以自己把握的。而一个人有没有这种把握能力，很大程度上取决于他能不能拒绝违章行为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Picture 3" descr="安全第一"/>
          <p:cNvPicPr/>
          <p:nvPr/>
        </p:nvPicPr>
        <p:blipFill>
          <a:blip r:embed="rId1"/>
          <a:stretch/>
        </p:blipFill>
        <p:spPr>
          <a:xfrm>
            <a:off x="0" y="990720"/>
            <a:ext cx="3962520" cy="46558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4"/>
          <p:cNvSpPr/>
          <p:nvPr/>
        </p:nvSpPr>
        <p:spPr>
          <a:xfrm>
            <a:off x="2666880" y="99072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对 违 章 者 的 忠 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533520" y="571500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0" y="5410080"/>
            <a:ext cx="91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ff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违章行为就是那些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明知有危险却仍然去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的行为，虽然不是每次违章都造成严重后果，但非常有必要给违章者几点忠告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 flipV="1">
            <a:off x="457200" y="1738800"/>
            <a:ext cx="830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3276720" y="1825560"/>
            <a:ext cx="56386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人们的每次违章并不是事故的必然结果，</a:t>
            </a:r>
            <a:r>
              <a:rPr b="1" lang="en-US" sz="2400" spc="-1" strike="noStrike">
                <a:solidFill>
                  <a:srgbClr val="0066ff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次违章可能也不会发生一次事故，但也可能一次违章你就连感到遗憾的机会都没有了。你能把握违章发生事故的随机性吗？答案是肯定的：不能。你愿意将自己的安全建立在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宋体"/>
              </a:rPr>
              <a:t>“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幸运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宋体"/>
              </a:rPr>
              <a:t>”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的基础上吗？肯定不会！说到底最最关键的还是靠自己的安全意识和安全责任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0" y="990720"/>
            <a:ext cx="3352680" cy="5333760"/>
          </a:xfrm>
          <a:prstGeom prst="triangle">
            <a:avLst>
              <a:gd name="adj" fmla="val 50523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219320" y="2438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144792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1523880" y="1143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1447920" y="17524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137160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Line 10"/>
          <p:cNvSpPr/>
          <p:nvPr/>
        </p:nvSpPr>
        <p:spPr>
          <a:xfrm>
            <a:off x="1066680" y="31240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Line 11"/>
          <p:cNvSpPr/>
          <p:nvPr/>
        </p:nvSpPr>
        <p:spPr>
          <a:xfrm>
            <a:off x="762120" y="403848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12952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3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13"/>
          <p:cNvSpPr/>
          <p:nvPr/>
        </p:nvSpPr>
        <p:spPr>
          <a:xfrm>
            <a:off x="1219320" y="4343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Line 14"/>
          <p:cNvSpPr/>
          <p:nvPr/>
        </p:nvSpPr>
        <p:spPr>
          <a:xfrm>
            <a:off x="0" y="3124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Line 15"/>
          <p:cNvSpPr/>
          <p:nvPr/>
        </p:nvSpPr>
        <p:spPr>
          <a:xfrm>
            <a:off x="914400" y="40384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Line 16"/>
          <p:cNvSpPr/>
          <p:nvPr/>
        </p:nvSpPr>
        <p:spPr>
          <a:xfrm>
            <a:off x="914400" y="2133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Line 17"/>
          <p:cNvSpPr/>
          <p:nvPr/>
        </p:nvSpPr>
        <p:spPr>
          <a:xfrm flipV="1">
            <a:off x="914400" y="9140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Line 18"/>
          <p:cNvSpPr/>
          <p:nvPr/>
        </p:nvSpPr>
        <p:spPr>
          <a:xfrm flipV="1">
            <a:off x="914400" y="3124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Text Box 19"/>
          <p:cNvSpPr/>
          <p:nvPr/>
        </p:nvSpPr>
        <p:spPr>
          <a:xfrm>
            <a:off x="-43200" y="1066680"/>
            <a:ext cx="729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记  录  性  事  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Text Box 20"/>
          <p:cNvSpPr/>
          <p:nvPr/>
        </p:nvSpPr>
        <p:spPr>
          <a:xfrm>
            <a:off x="33120" y="3733920"/>
            <a:ext cx="7290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非  记  录  性  事  故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Text Box 21"/>
          <p:cNvSpPr/>
          <p:nvPr/>
        </p:nvSpPr>
        <p:spPr>
          <a:xfrm>
            <a:off x="914400" y="50292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不安全的行为及潜在的危险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Text Box 22"/>
          <p:cNvSpPr/>
          <p:nvPr/>
        </p:nvSpPr>
        <p:spPr>
          <a:xfrm>
            <a:off x="1143000" y="3581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轻微伤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Text Box 23"/>
          <p:cNvSpPr/>
          <p:nvPr/>
        </p:nvSpPr>
        <p:spPr>
          <a:xfrm>
            <a:off x="1295280" y="2743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轻伤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 Box 24"/>
          <p:cNvSpPr/>
          <p:nvPr/>
        </p:nvSpPr>
        <p:spPr>
          <a:xfrm>
            <a:off x="12193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重伤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Text Box 25"/>
          <p:cNvSpPr/>
          <p:nvPr/>
        </p:nvSpPr>
        <p:spPr>
          <a:xfrm>
            <a:off x="1447920" y="146196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死亡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Text Box 26"/>
          <p:cNvSpPr/>
          <p:nvPr/>
        </p:nvSpPr>
        <p:spPr>
          <a:xfrm>
            <a:off x="3657600" y="10666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 违章不是事故的必然结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76320" y="914400"/>
            <a:ext cx="9067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第二  个人安全保证书写给谁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我们每年都写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个人安全保证书，其实就是一种检查个人安全意识的形式。重要的不是向领导保证，而是向自己和家人保证，其关键还是提高个人安全自保意识和互保意识。有人说这是形式主义，那么，我们就实实在在的遵章守纪好了。保证就是践行自己的诺言，履行保证就是检验个人的诚信度。可以这样说，如果对自己的安全都不负责任的人，他肯定没有对他人负责任的意识，也就无从谈起对家庭、对企业、对国家的负责了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1" name="Picture 3" descr="补课"/>
          <p:cNvPicPr/>
          <p:nvPr/>
        </p:nvPicPr>
        <p:blipFill>
          <a:blip r:embed="rId1"/>
          <a:stretch/>
        </p:blipFill>
        <p:spPr>
          <a:xfrm>
            <a:off x="762120" y="3809880"/>
            <a:ext cx="7543800" cy="251460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4267080" y="5545080"/>
            <a:ext cx="3886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ff"/>
                </a:solidFill>
                <a:latin typeface="Times New Roman"/>
                <a:ea typeface="华文行楷"/>
              </a:rPr>
              <a:t>老师台上在讲课，学生心里暗琢磨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ff"/>
                </a:solidFill>
                <a:latin typeface="Times New Roman"/>
                <a:ea typeface="华文行楷"/>
              </a:rPr>
              <a:t>若是早点守安规，何必伤腿断胳膊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5" name="标题 1"/>
          <p:cNvSpPr/>
          <p:nvPr/>
        </p:nvSpPr>
        <p:spPr>
          <a:xfrm>
            <a:off x="395280" y="5805360"/>
            <a:ext cx="68407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Tahoma"/>
                <a:ea typeface="宋体"/>
              </a:rPr>
              <a:t>涂装场隔墙被撞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5" descr="SAM_2637"/>
          <p:cNvPicPr/>
          <p:nvPr/>
        </p:nvPicPr>
        <p:blipFill>
          <a:blip r:embed="rId1"/>
          <a:stretch/>
        </p:blipFill>
        <p:spPr>
          <a:xfrm>
            <a:off x="324000" y="1844640"/>
            <a:ext cx="5111640" cy="3854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YP20120314144130"/>
          <p:cNvPicPr/>
          <p:nvPr/>
        </p:nvPicPr>
        <p:blipFill>
          <a:blip r:embed="rId2"/>
          <a:stretch/>
        </p:blipFill>
        <p:spPr>
          <a:xfrm>
            <a:off x="5711760" y="1773360"/>
            <a:ext cx="296388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3429000" y="1050840"/>
            <a:ext cx="55627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       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  <a:ea typeface="黑体"/>
              </a:rPr>
              <a:t>第三    安全意识问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a159"/>
                </a:solidFill>
                <a:latin typeface="Times New Roman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2da159"/>
                </a:solidFill>
                <a:latin typeface="Times New Roman"/>
                <a:ea typeface="宋体"/>
              </a:rPr>
              <a:t>在检修过程中我们经常检查到有的同志高处作业不使用安全带，安全帽当板凳坐，有的甚至班长都在场，为什么没有意识到这些违章行为，非要安全监察人员给予制止吗？人的生命重要，还是舒适方便重要？我想每个人都是很清楚的。安全对于个人、企业、国家都是最大的效益。我们为什么就不能提高自己的安全责任意识呢？为什么非要别人给予提醒呢？安全意识的高低在某种程度上体现了个人综合素质的高低。个人心情不好，社会分配不公，一些不良社会现象可能影响我们的一些意识和行为，但是这些都不是违章的理由啊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4" name="Picture 3" descr="花儿为什么这样红"/>
          <p:cNvPicPr/>
          <p:nvPr/>
        </p:nvPicPr>
        <p:blipFill>
          <a:blip r:embed="rId1"/>
          <a:stretch/>
        </p:blipFill>
        <p:spPr>
          <a:xfrm>
            <a:off x="73080" y="1143000"/>
            <a:ext cx="3279600" cy="441180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4"/>
          <p:cNvSpPr/>
          <p:nvPr/>
        </p:nvSpPr>
        <p:spPr>
          <a:xfrm>
            <a:off x="380880" y="5562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花儿为什么这样红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0" y="1122480"/>
            <a:ext cx="61722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第四  违 章 的 成 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ff"/>
                </a:solidFill>
                <a:latin typeface="Times New Roman"/>
                <a:ea typeface="黑体"/>
              </a:rPr>
              <a:t>        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安全是人生的第一需要，是不可动摇的。没了你的安全，你的父母、你的妻子、你的子女、你的家庭怎么办？你如果造成了伤残，就可能断送你的发展前程，有哪一个企业愿意用肢体残疾的员工做高管呢？退一步讲，发生了人身事故，个人、企业、国家都受到了损失。全国每年事故造成的人员伤亡几十万人，你我可能都没有察觉到什么，如果有一起落到我们自己头上那可就是塌天大祸！你想过没有，家庭、企业、国家对事故损失的承受力差别是巨大的，工厂、设备报废国家可以重建，人员损失了企业可以重新招募，但是作为我们个人来说，你愿意用自己的伤残做成本吗？你如何承受伤亡给家庭带来的痛苦？经济上同志们可以帮助，感情上可以关心，而肢体和心灵痛苦有谁能给你分担呢？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7" name="Picture 3" descr="关注安全"/>
          <p:cNvPicPr/>
          <p:nvPr/>
        </p:nvPicPr>
        <p:blipFill>
          <a:blip r:embed="rId1"/>
          <a:stretch/>
        </p:blipFill>
        <p:spPr>
          <a:xfrm>
            <a:off x="6227640" y="976320"/>
            <a:ext cx="2916360" cy="52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76320" y="914400"/>
            <a:ext cx="5852880" cy="12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第五  找好安全的退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4fa56a"/>
                </a:solidFill>
                <a:latin typeface="Times New Roman"/>
                <a:ea typeface="宋体"/>
              </a:rPr>
              <a:t>不论做什么工作，即使安全措施再完善，也要先找出退路，如在工作中发生不可测的情况时我向哪里躲？不怕死伤的战士是好战士，不怕死伤的员工不是好员工。如果都不怕死了，事故还能避免吗？怕死怕伤，警惕性就高，事故就会少，甚至能够避免事故。我们所从事的工作，没有一项是绝对安全的，相对的安全也要靠我们每个人的努力才能实现，也就是将安全制度和安全措施通过你我实实在在的落实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9" name="Picture 3" descr="未命名"/>
          <p:cNvPicPr/>
          <p:nvPr/>
        </p:nvPicPr>
        <p:blipFill>
          <a:blip r:embed="rId1"/>
          <a:stretch/>
        </p:blipFill>
        <p:spPr>
          <a:xfrm>
            <a:off x="5791320" y="1371600"/>
            <a:ext cx="335268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468360" y="1484280"/>
            <a:ext cx="518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0" y="1143000"/>
            <a:ext cx="5364000" cy="11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如何对待违章，听之任之显然不行。现代企业是靠科学的制度和严谨的规程运行的，每个人都有遵守制度和规程的义务，如果不尽义务就会使企业的运行受阻，当事人就会受到惩罚。在实行以人为本的今天，如果以事故伤害为代价的惩罚就太未免残酷了。在经济上、荣誉上的惩罚的目的是使人们更加自觉的遵守制度，从原则意义上讲，惩罚的是某件事，而不是某个人，是一种警示作用，否则就是对工作责任的蔑视，就是对人生命的蔑视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" name="Picture 4" descr="20060330110151400"/>
          <p:cNvPicPr/>
          <p:nvPr/>
        </p:nvPicPr>
        <p:blipFill>
          <a:blip r:embed="rId1"/>
          <a:stretch/>
        </p:blipFill>
        <p:spPr>
          <a:xfrm>
            <a:off x="5364000" y="1828800"/>
            <a:ext cx="3780000" cy="435456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5"/>
          <p:cNvSpPr/>
          <p:nvPr/>
        </p:nvSpPr>
        <p:spPr>
          <a:xfrm>
            <a:off x="1905120" y="114300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第六   关 于 对 违 章 的 惩 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245736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76320" y="1143000"/>
            <a:ext cx="906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七  应该提倡的安全理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Times New Roman"/>
                <a:ea typeface="宋体"/>
              </a:rPr>
              <a:t>     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00"/>
                </a:solidFill>
                <a:latin typeface="Times New Roman"/>
                <a:ea typeface="宋体"/>
              </a:rPr>
              <a:t>        </a:t>
            </a:r>
            <a:r>
              <a:rPr b="1" lang="zh-CN" sz="2700" spc="-1" strike="noStrike">
                <a:solidFill>
                  <a:srgbClr val="ffff00"/>
                </a:solidFill>
                <a:latin typeface="Times New Roman"/>
                <a:ea typeface="宋体"/>
              </a:rPr>
              <a:t>作为企业的员工，我们有责任做好自己的工作，有责任关心企业的安全，我们每个人的安全工作是企业安全的基础，企业的效益好，我们的收入和生活就会有保证。我们每个人都是安全生产中的一环，一环断裂就会使企业的整体处于不安全中，所以说我们没有任何理由进行违章作业，没有任何理由由于自己的原因对自己、对他人、对企业造成伤害。应该大力提倡“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黑体"/>
              </a:rPr>
              <a:t>我的安全我负责，他人的安全我有责，企业安全我尽责</a:t>
            </a:r>
            <a:r>
              <a:rPr b="1" lang="zh-CN" sz="2700" spc="-1" strike="noStrike">
                <a:solidFill>
                  <a:srgbClr val="ffff00"/>
                </a:solidFill>
                <a:latin typeface="Times New Roman"/>
                <a:ea typeface="宋体"/>
              </a:rPr>
              <a:t>”的安全责任理念。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76320" y="907920"/>
            <a:ext cx="4351320" cy="24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肺  腑  之  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发生事故的诸多原因中，安全意识的淡薄是最致命的。就这一点，我们就应该始终如履薄冰，如临深渊，小心谨慎地做好自己的工作吧！在这里我用最朴实的语言忠告大家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：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工作为了生活好，安全为了活到老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。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7" name="Picture 3" descr="安全规程"/>
          <p:cNvPicPr/>
          <p:nvPr/>
        </p:nvPicPr>
        <p:blipFill>
          <a:blip r:embed="rId1"/>
          <a:stretch/>
        </p:blipFill>
        <p:spPr>
          <a:xfrm>
            <a:off x="4284720" y="914400"/>
            <a:ext cx="485928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0" name="Picture 4" descr="IMG_0253"/>
          <p:cNvPicPr/>
          <p:nvPr/>
        </p:nvPicPr>
        <p:blipFill>
          <a:blip r:embed="rId1"/>
          <a:stretch/>
        </p:blipFill>
        <p:spPr>
          <a:xfrm>
            <a:off x="1260360" y="1125360"/>
            <a:ext cx="6624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Picture 5" descr="P2190040"/>
          <p:cNvPicPr/>
          <p:nvPr/>
        </p:nvPicPr>
        <p:blipFill>
          <a:blip r:embed="rId1"/>
          <a:stretch/>
        </p:blipFill>
        <p:spPr>
          <a:xfrm>
            <a:off x="755640" y="981000"/>
            <a:ext cx="720108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Picture 4" descr="照片 004"/>
          <p:cNvPicPr/>
          <p:nvPr/>
        </p:nvPicPr>
        <p:blipFill>
          <a:blip r:embed="rId1"/>
          <a:stretch/>
        </p:blipFill>
        <p:spPr>
          <a:xfrm>
            <a:off x="530280" y="725400"/>
            <a:ext cx="3816360" cy="407196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6" descr="SDC11419.JPG"/>
          <p:cNvPicPr/>
          <p:nvPr/>
        </p:nvPicPr>
        <p:blipFill>
          <a:blip r:embed="rId2"/>
          <a:stretch/>
        </p:blipFill>
        <p:spPr>
          <a:xfrm>
            <a:off x="469800" y="4005360"/>
            <a:ext cx="3565800" cy="249228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7" descr="DSCF1242.JPG"/>
          <p:cNvPicPr/>
          <p:nvPr/>
        </p:nvPicPr>
        <p:blipFill>
          <a:blip r:embed="rId3"/>
          <a:stretch/>
        </p:blipFill>
        <p:spPr>
          <a:xfrm>
            <a:off x="5151600" y="689040"/>
            <a:ext cx="2912760" cy="2309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D:\安全检查\2月份\2.23\购买业体装载钣金件的台车坠落.JPG"/>
          <p:cNvPicPr/>
          <p:nvPr/>
        </p:nvPicPr>
        <p:blipFill>
          <a:blip r:embed="rId4"/>
          <a:stretch/>
        </p:blipFill>
        <p:spPr>
          <a:xfrm>
            <a:off x="4827600" y="3413160"/>
            <a:ext cx="301788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971640" y="62064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ahoma"/>
                <a:ea typeface="宋体"/>
              </a:rPr>
              <a:t>叉车使用危险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Picture 7" descr="SV102372"/>
          <p:cNvPicPr/>
          <p:nvPr/>
        </p:nvPicPr>
        <p:blipFill>
          <a:blip r:embed="rId1"/>
          <a:stretch/>
        </p:blipFill>
        <p:spPr>
          <a:xfrm>
            <a:off x="468360" y="1413000"/>
            <a:ext cx="4319640" cy="33084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SAM_2463"/>
          <p:cNvPicPr/>
          <p:nvPr/>
        </p:nvPicPr>
        <p:blipFill>
          <a:blip r:embed="rId2"/>
          <a:stretch/>
        </p:blipFill>
        <p:spPr>
          <a:xfrm>
            <a:off x="4427640" y="3500280"/>
            <a:ext cx="4176720" cy="3133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BD07293_"/>
          <p:cNvPicPr/>
          <p:nvPr/>
        </p:nvPicPr>
        <p:blipFill>
          <a:blip r:embed="rId3"/>
          <a:stretch/>
        </p:blipFill>
        <p:spPr>
          <a:xfrm>
            <a:off x="468360" y="5516640"/>
            <a:ext cx="187308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ar4"/>
          <p:cNvPicPr/>
          <p:nvPr/>
        </p:nvPicPr>
        <p:blipFill>
          <a:blip r:embed="rId1"/>
          <a:stretch/>
        </p:blipFill>
        <p:spPr>
          <a:xfrm>
            <a:off x="685800" y="1828800"/>
            <a:ext cx="2514600" cy="20923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car7"/>
          <p:cNvPicPr/>
          <p:nvPr/>
        </p:nvPicPr>
        <p:blipFill>
          <a:blip r:embed="rId2"/>
          <a:stretch/>
        </p:blipFill>
        <p:spPr>
          <a:xfrm>
            <a:off x="609480" y="4114800"/>
            <a:ext cx="2651400" cy="2103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car10"/>
          <p:cNvPicPr/>
          <p:nvPr/>
        </p:nvPicPr>
        <p:blipFill>
          <a:blip r:embed="rId3"/>
          <a:stretch/>
        </p:blipFill>
        <p:spPr>
          <a:xfrm>
            <a:off x="3419640" y="1844640"/>
            <a:ext cx="2331720" cy="2092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기계설비64"/>
          <p:cNvPicPr/>
          <p:nvPr/>
        </p:nvPicPr>
        <p:blipFill>
          <a:blip r:embed="rId4"/>
          <a:stretch/>
        </p:blipFill>
        <p:spPr>
          <a:xfrm>
            <a:off x="3429000" y="4191120"/>
            <a:ext cx="2743200" cy="186840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8"/>
          <p:cNvSpPr/>
          <p:nvPr/>
        </p:nvSpPr>
        <p:spPr>
          <a:xfrm>
            <a:off x="533520" y="8380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ahoma"/>
                <a:ea typeface="宋体"/>
              </a:rPr>
              <a:t>事故类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Picture 10" descr="car11"/>
          <p:cNvPicPr/>
          <p:nvPr/>
        </p:nvPicPr>
        <p:blipFill>
          <a:blip r:embed="rId5"/>
          <a:stretch/>
        </p:blipFill>
        <p:spPr>
          <a:xfrm>
            <a:off x="6516720" y="4508640"/>
            <a:ext cx="2305080" cy="17240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car9"/>
          <p:cNvPicPr/>
          <p:nvPr/>
        </p:nvPicPr>
        <p:blipFill>
          <a:blip r:embed="rId6"/>
          <a:stretch/>
        </p:blipFill>
        <p:spPr>
          <a:xfrm>
            <a:off x="6084720" y="1844640"/>
            <a:ext cx="28083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99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ahoma"/>
              </a:rPr>
              <a:t>车辆事故预防</a:t>
            </a:r>
            <a:endParaRPr b="1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符合安全要求的车辆及保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叉车驾驶人员的资质许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安全操作规程的遵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作业人员的培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作业防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合理的劳动组织安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合适的作业环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定期安全检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Picture 4" descr="store3"/>
          <p:cNvPicPr/>
          <p:nvPr/>
        </p:nvPicPr>
        <p:blipFill>
          <a:blip r:embed="rId1"/>
          <a:stretch/>
        </p:blipFill>
        <p:spPr>
          <a:xfrm>
            <a:off x="6248520" y="4462560"/>
            <a:ext cx="213336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99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ahoma"/>
              </a:rPr>
              <a:t>碰撞事故预防</a:t>
            </a:r>
            <a:endParaRPr b="1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1066680" y="2205000"/>
            <a:ext cx="7537680" cy="1152720"/>
            <a:chOff x="1066680" y="2205000"/>
            <a:chExt cx="7537680" cy="1152720"/>
          </a:xfrm>
        </p:grpSpPr>
        <p:sp>
          <p:nvSpPr>
            <p:cNvPr id="183" name="Rectangle 4"/>
            <p:cNvSpPr/>
            <p:nvPr/>
          </p:nvSpPr>
          <p:spPr>
            <a:xfrm>
              <a:off x="1979640" y="2205000"/>
              <a:ext cx="662472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行人与车辆的安全间距及规则遵守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驾驶员的注意力集中、正确判断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叉车速度控制及路口鸣号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" name="AutoShape 5"/>
            <p:cNvSpPr/>
            <p:nvPr/>
          </p:nvSpPr>
          <p:spPr>
            <a:xfrm>
              <a:off x="1066680" y="2286000"/>
              <a:ext cx="762120" cy="990720"/>
            </a:xfrm>
            <a:prstGeom prst="rightArrowCallout">
              <a:avLst>
                <a:gd name="adj1" fmla="val 32502"/>
                <a:gd name="adj2" fmla="val 32499"/>
                <a:gd name="adj3" fmla="val 16667"/>
                <a:gd name="adj4" fmla="val 6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ahoma"/>
                </a:rPr>
                <a:t>人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5" name="Group 6"/>
          <p:cNvGrpSpPr/>
          <p:nvPr/>
        </p:nvGrpSpPr>
        <p:grpSpPr>
          <a:xfrm>
            <a:off x="1066680" y="3500280"/>
            <a:ext cx="6602400" cy="1297080"/>
            <a:chOff x="1066680" y="3500280"/>
            <a:chExt cx="6602400" cy="1297080"/>
          </a:xfrm>
        </p:grpSpPr>
        <p:sp>
          <p:nvSpPr>
            <p:cNvPr id="186" name="Rectangle 7"/>
            <p:cNvSpPr/>
            <p:nvPr/>
          </p:nvSpPr>
          <p:spPr>
            <a:xfrm>
              <a:off x="1979640" y="3500280"/>
              <a:ext cx="5689440" cy="12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视觉警告标志（安全间距、色带）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声光报警器保持有效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制动系统完好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" name="AutoShape 8"/>
            <p:cNvSpPr/>
            <p:nvPr/>
          </p:nvSpPr>
          <p:spPr>
            <a:xfrm>
              <a:off x="1066680" y="3657600"/>
              <a:ext cx="762120" cy="990720"/>
            </a:xfrm>
            <a:prstGeom prst="rightArrowCallout">
              <a:avLst>
                <a:gd name="adj1" fmla="val 32502"/>
                <a:gd name="adj2" fmla="val 32499"/>
                <a:gd name="adj3" fmla="val 16667"/>
                <a:gd name="adj4" fmla="val 6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ahoma"/>
                </a:rPr>
                <a:t>机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8" name="Group 9"/>
          <p:cNvGrpSpPr/>
          <p:nvPr/>
        </p:nvGrpSpPr>
        <p:grpSpPr>
          <a:xfrm>
            <a:off x="1066680" y="4869000"/>
            <a:ext cx="6313680" cy="1439640"/>
            <a:chOff x="1066680" y="4869000"/>
            <a:chExt cx="6313680" cy="1439640"/>
          </a:xfrm>
        </p:grpSpPr>
        <p:sp>
          <p:nvSpPr>
            <p:cNvPr id="189" name="Rectangle 10"/>
            <p:cNvSpPr/>
            <p:nvPr/>
          </p:nvSpPr>
          <p:spPr>
            <a:xfrm>
              <a:off x="1979640" y="4869000"/>
              <a:ext cx="540072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避免路径交叉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交叉路口设置报警系统等安全设施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交叉作业的指挥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AutoShape 11"/>
            <p:cNvSpPr/>
            <p:nvPr/>
          </p:nvSpPr>
          <p:spPr>
            <a:xfrm>
              <a:off x="1066680" y="5029200"/>
              <a:ext cx="762120" cy="990720"/>
            </a:xfrm>
            <a:prstGeom prst="rightArrowCallout">
              <a:avLst>
                <a:gd name="adj1" fmla="val 32502"/>
                <a:gd name="adj2" fmla="val 32499"/>
                <a:gd name="adj3" fmla="val 16667"/>
                <a:gd name="adj4" fmla="val 6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环境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99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ahoma"/>
              </a:rPr>
              <a:t>作业安全管理</a:t>
            </a:r>
            <a:endParaRPr b="1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铲车驾驶人员必须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持证上岗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其他无证人员严禁驾驶铲车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叉车工应熟练掌握操作规程及装卸作业方法，遵守道路安全规则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铲车在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每次使用前使用者应进行点检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必须确认刹车装置、喇叭、警光灯、指示灯及轮胎等主要配件正常后方可使用，且向接班者交接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铲车作业通道应保持水平坚实，无凹凸及障碍物。起步时要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查看周围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有无人员，然后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鸣号起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行驶中若遇不良条件，应减速慢行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严禁被装卸的物体超过车辆核定起重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栈板使用前应确认牢固结实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叉货时按货物的大小，将货叉调到所需距离，将起重架前倾；叉壁与货物一面相接触后然后起重架后倾，货物的重量应平均由两货叉分担，货物重心位于两货叉中心处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散装及轻质物件应捆扎牢固，防止货物散落，风大时避免逆风行驶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掏箱作业的应在装卸车辆停稳后进行，且应遵守相应的安全规定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夹包车在起动前要确认是否夹紧货物，禁止只夹住货物一部分行驶，且应定期做夹力试验。禁止在空载行驶时将夹包全张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4648320" y="762120"/>
            <a:ext cx="2209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Picture 5" descr="BD06494_"/>
          <p:cNvPicPr/>
          <p:nvPr/>
        </p:nvPicPr>
        <p:blipFill>
          <a:blip r:embed="rId1"/>
          <a:stretch/>
        </p:blipFill>
        <p:spPr>
          <a:xfrm>
            <a:off x="7238880" y="838080"/>
            <a:ext cx="128772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4T05:35:14Z</dcterms:created>
  <dc:creator>张政委</dc:creator>
  <dc:description/>
  <dc:language>en-US</dc:language>
  <cp:lastModifiedBy>ic1000732</cp:lastModifiedBy>
  <dcterms:modified xsi:type="dcterms:W3CDTF">2014-01-08T06:43:43Z</dcterms:modified>
  <cp:revision>535</cp:revision>
  <dc:subject/>
  <dc:title>物流安全培训</dc:title>
</cp:coreProperties>
</file>