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9EC1-E8F3-4424-A94B-285AEC63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C812-E53E-40AA-9D6E-C6CD7575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AC37-8FCD-43DD-BE36-02B01563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DEAA-5AA9-4A3A-8A7C-DE7B05EB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365C-0CA5-4066-8DFA-37E912C3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D98A-54B5-4FD3-B781-1239EE85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196A-244F-4E5B-89A4-F41D5BDF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EC01-CB3C-49D8-BFD0-77436023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348A-45A2-4D5F-B4CC-E6B3CD0F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CED3-3E10-44BB-AB25-C6B3F555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C35C-E3A4-49F8-9095-771F030A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650F-DCA3-4F47-8925-694D47BF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9144000" cy="1506600"/>
            <a:chOff x="0" y="0"/>
            <a:chExt cx="9144000" cy="1506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9"/>
            <p:cNvSpPr/>
            <p:nvPr/>
          </p:nvSpPr>
          <p:spPr>
            <a:xfrm>
              <a:off x="0" y="0"/>
              <a:ext cx="9144000" cy="1447920"/>
            </a:xfrm>
            <a:prstGeom prst="rect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e8eef1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7"/>
            <p:cNvSpPr/>
            <p:nvPr/>
          </p:nvSpPr>
          <p:spPr>
            <a:xfrm>
              <a:off x="0" y="1428840"/>
              <a:ext cx="9144000" cy="1440"/>
            </a:xfrm>
            <a:prstGeom prst="line">
              <a:avLst/>
            </a:prstGeom>
            <a:ln w="38160">
              <a:solidFill>
                <a:srgbClr val="307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8"/>
            <p:cNvSpPr/>
            <p:nvPr/>
          </p:nvSpPr>
          <p:spPr>
            <a:xfrm>
              <a:off x="0" y="1505160"/>
              <a:ext cx="91440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Segoe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E56C-45A3-41E1-B7AB-8EE5F2B6B478}" type="slidenum">
              <a:rPr b="0" lang="zh-CN" sz="1200" spc="-1" strike="noStrike">
                <a:solidFill>
                  <a:srgbClr val="ffffff"/>
                </a:solidFill>
                <a:latin typeface="Segoe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8"/>
          <p:cNvGrpSpPr/>
          <p:nvPr/>
        </p:nvGrpSpPr>
        <p:grpSpPr>
          <a:xfrm>
            <a:off x="-1440" y="0"/>
            <a:ext cx="9144000" cy="6858000"/>
            <a:chOff x="-1440" y="0"/>
            <a:chExt cx="9144000" cy="6858000"/>
          </a:xfrm>
        </p:grpSpPr>
        <p:pic>
          <p:nvPicPr>
            <p:cNvPr id="47" name="Rectangle 6" descr=""/>
            <p:cNvPicPr/>
            <p:nvPr/>
          </p:nvPicPr>
          <p:blipFill>
            <a:blip r:embed="rId2">
              <a:lum bright="-10000"/>
            </a:blip>
            <a:stretch/>
          </p:blipFill>
          <p:spPr>
            <a:xfrm>
              <a:off x="-1440" y="380880"/>
              <a:ext cx="9144000" cy="60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Rectangle 10"/>
            <p:cNvSpPr/>
            <p:nvPr/>
          </p:nvSpPr>
          <p:spPr>
            <a:xfrm>
              <a:off x="-1440" y="0"/>
              <a:ext cx="9144000" cy="304560"/>
            </a:xfrm>
            <a:prstGeom prst="rect">
              <a:avLst/>
            </a:prstGeom>
            <a:solidFill>
              <a:srgbClr val="4f2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11"/>
            <p:cNvSpPr/>
            <p:nvPr/>
          </p:nvSpPr>
          <p:spPr>
            <a:xfrm>
              <a:off x="-1440" y="6553440"/>
              <a:ext cx="9144000" cy="304560"/>
            </a:xfrm>
            <a:prstGeom prst="rect">
              <a:avLst/>
            </a:prstGeom>
            <a:solidFill>
              <a:srgbClr val="4f2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14"/>
            <p:cNvSpPr/>
            <p:nvPr/>
          </p:nvSpPr>
          <p:spPr>
            <a:xfrm>
              <a:off x="-1440" y="380880"/>
              <a:ext cx="9144000" cy="1440"/>
            </a:xfrm>
            <a:prstGeom prst="line">
              <a:avLst/>
            </a:prstGeom>
            <a:ln w="38160">
              <a:solidFill>
                <a:srgbClr val="307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-1440" y="6477120"/>
              <a:ext cx="9144000" cy="1440"/>
            </a:xfrm>
            <a:prstGeom prst="line">
              <a:avLst/>
            </a:prstGeom>
            <a:ln w="38160">
              <a:solidFill>
                <a:srgbClr val="307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8"/>
          <p:cNvGrpSpPr/>
          <p:nvPr/>
        </p:nvGrpSpPr>
        <p:grpSpPr>
          <a:xfrm>
            <a:off x="-1440" y="0"/>
            <a:ext cx="9145440" cy="6858000"/>
            <a:chOff x="-1440" y="0"/>
            <a:chExt cx="9145440" cy="6858000"/>
          </a:xfrm>
        </p:grpSpPr>
        <p:pic>
          <p:nvPicPr>
            <p:cNvPr id="91" name="Rectangle 17" descr=""/>
            <p:cNvPicPr/>
            <p:nvPr/>
          </p:nvPicPr>
          <p:blipFill>
            <a:blip r:embed="rId2"/>
            <a:stretch/>
          </p:blipFill>
          <p:spPr>
            <a:xfrm>
              <a:off x="0" y="380880"/>
              <a:ext cx="9144000" cy="609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9"/>
            <p:cNvSpPr/>
            <p:nvPr/>
          </p:nvSpPr>
          <p:spPr>
            <a:xfrm>
              <a:off x="-1440" y="0"/>
              <a:ext cx="9144000" cy="304560"/>
            </a:xfrm>
            <a:prstGeom prst="rect">
              <a:avLst/>
            </a:prstGeom>
            <a:solidFill>
              <a:srgbClr val="4f2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Rectangle 14"/>
            <p:cNvSpPr/>
            <p:nvPr/>
          </p:nvSpPr>
          <p:spPr>
            <a:xfrm>
              <a:off x="-1440" y="6553440"/>
              <a:ext cx="9144000" cy="304560"/>
            </a:xfrm>
            <a:prstGeom prst="rect">
              <a:avLst/>
            </a:prstGeom>
            <a:solidFill>
              <a:srgbClr val="4f2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Straight Connector 15"/>
            <p:cNvSpPr/>
            <p:nvPr/>
          </p:nvSpPr>
          <p:spPr>
            <a:xfrm>
              <a:off x="-1440" y="380880"/>
              <a:ext cx="9144000" cy="1440"/>
            </a:xfrm>
            <a:prstGeom prst="line">
              <a:avLst/>
            </a:prstGeom>
            <a:ln w="38160">
              <a:solidFill>
                <a:srgbClr val="307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Straight Connector 16"/>
            <p:cNvSpPr/>
            <p:nvPr/>
          </p:nvSpPr>
          <p:spPr>
            <a:xfrm>
              <a:off x="-1440" y="6477120"/>
              <a:ext cx="9144000" cy="1440"/>
            </a:xfrm>
            <a:prstGeom prst="line">
              <a:avLst/>
            </a:prstGeom>
            <a:ln w="38160">
              <a:solidFill>
                <a:srgbClr val="307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f271c"/>
                </a:solidFill>
                <a:latin typeface="Segoe Condensed"/>
                <a:ea typeface="宋体"/>
              </a:rPr>
              <a:t>欢迎同学！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704880" y="44956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</a:rPr>
              <a:t>Teacher’s Name – X Grade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数学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简要说明今年学习的数学课程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科学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简要说明今年学习的科学内容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社会学习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简要说明今年学习的社会学习课程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音乐和艺术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简要说明今年学习的音乐和艺术课程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22160" y="45050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我们的教室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Teacher’s Name – X Grade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课堂守则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我们是一个大家庭。在这个家庭中，我们制订规则来使我们融洽相处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我们的课堂守则是：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相互尊重，负责可靠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组织有序，服从安排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守时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准备到位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家庭作业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每晚会布置大约 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45 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分钟的家庭作业。其中包括 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20 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分钟的阅读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必须在星期五上午之前完成所有的家庭作业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如果需要在家庭作业上花费额外的时间，请抽出休息时间到家庭作业俱乐部完成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迟到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上课时间是上午 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9:05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如果在第二次响铃之后到达教室，请首先到学校办公室签到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如果迟到四次，学校将通知您的父母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社会活动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我们在这一年里安排了许多有趣的社会活动！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我们将在剧场观看两次戏剧，作为阅读学习的一部分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我们将参观一个公园并在河水中提取水样，作为在科学研究中研究环境的一部分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我们将参观一个面包店，作为社区社会学习的一部分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45050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新年新成就！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欢迎加入 </a:t>
            </a: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x </a:t>
            </a: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年级！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我现在向您介绍 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x 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年级和我们的教室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如果在我演示的过程中有任何问题，请举手等待点名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关于我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我的背景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我在城市或乡村长大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我曾就读于小学名称、中学名称和大学名称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我的经历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我已经任教 </a:t>
            </a: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x </a:t>
            </a: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年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我同时教 </a:t>
            </a: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x </a:t>
            </a: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年级和 </a:t>
            </a: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x </a:t>
            </a: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年级，但我最喜欢教 </a:t>
            </a: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x </a:t>
            </a: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年级。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我的家庭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我的丈夫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妻子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伴侣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名称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我的孩子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Daughters’ Names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Sons’ Names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我们的宠物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Dogs’ Names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Cats’ Names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我的目标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教给你们升入 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x 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年级所需的知识和社会技能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营造团结互助和愉悦的教室氛围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使大家成为朋友并发现新的兴趣爱好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22160" y="45050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教学科目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Teacher’s Name – X Grade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教学科目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我们在 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x </a:t>
            </a: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年级将要学习的科目包括：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阅读和写作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数学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科学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社会学习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egoe Condensed"/>
                <a:ea typeface="宋体"/>
              </a:rPr>
              <a:t>音乐和艺术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阅读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简要说明今年将要学习的阅读课程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Bookman Old Style"/>
                <a:ea typeface="宋体"/>
              </a:rPr>
              <a:t>写作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egoe Condensed"/>
                <a:ea typeface="宋体"/>
              </a:rPr>
              <a:t>简要说明今年将要学习的写作课程。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1:42:26Z</dcterms:created>
  <dc:creator/>
  <dc:description/>
  <dc:language>en-US</dc:language>
  <cp:lastModifiedBy>wuhan</cp:lastModifiedBy>
  <dcterms:modified xsi:type="dcterms:W3CDTF">2017-10-12T04:46:46Z</dcterms:modified>
  <cp:revision>3</cp:revision>
  <dc:subject/>
  <dc:title>Teacher’s Name – X Grad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8</vt:lpwstr>
  </property>
  <property fmtid="{D5CDD505-2E9C-101B-9397-08002B2CF9AE}" pid="3" name="_TemplateID">
    <vt:lpwstr>TC101659612052</vt:lpwstr>
  </property>
</Properties>
</file>