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8.jpeg" ContentType="image/jpeg"/>
  <Override PartName="/ppt/media/image11.png" ContentType="image/png"/>
  <Override PartName="/ppt/media/image19.jpeg" ContentType="image/jpeg"/>
  <Override PartName="/ppt/media/image17.gif" ContentType="image/gif"/>
  <Override PartName="/ppt/media/image2.jpeg" ContentType="image/jpeg"/>
  <Override PartName="/ppt/media/image15.jpeg" ContentType="image/jpeg"/>
  <Override PartName="/ppt/media/image1.gif" ContentType="image/gif"/>
  <Override PartName="/ppt/media/image7.png" ContentType="image/png"/>
  <Override PartName="/ppt/media/image6.png" ContentType="image/png"/>
  <Override PartName="/ppt/media/image3.gif" ContentType="image/gif"/>
  <Override PartName="/ppt/media/image4.jpeg" ContentType="image/jpeg"/>
  <Override PartName="/ppt/media/image13.gif" ContentType="image/gif"/>
  <Override PartName="/ppt/media/image16.png" ContentType="image/pn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541-7881-461E-8349-1F51D482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6D6-6BF1-44B6-B771-9F5517E1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4BE-7E86-490C-9B8A-71940CE7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B47-8FEA-4711-844D-FA4C7C67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B9A-357E-4FBC-92F1-71D7A011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D53-881D-40F1-ADD0-0EC92719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475-DC90-4047-AC23-8F9911B4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19D-3D9B-43D1-A05C-9783E9E8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EEA0-1D11-4C53-941D-94C0E6DA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098-E24F-4DA0-9F74-1EFE7252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360-B755-4AAC-BE3A-B67F9786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679-FCBC-49E5-98A7-2F93B990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C4A3-CF09-41C3-8D59-1584825DD7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4292640"/>
            <a:ext cx="8496000" cy="24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99ff"/>
                </a:solidFill>
                <a:latin typeface="华文新魏"/>
              </a:rPr>
              <a:t>大家好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99ff"/>
              </a:solidFill>
              <a:latin typeface="华文新魏"/>
              <a:ea typeface="华文新魏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5440" cy="6912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4360" y="1916280"/>
            <a:ext cx="7775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街坊劝他说：“赶快把羊圈修一修，堵上那个窟窿吧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他说：“羊已经丢了，还修羊圈干什么呢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0" y="692280"/>
            <a:ext cx="3672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读一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1790640"/>
            <a:ext cx="85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他很后悔，不该不接受街坊的劝告，心想，现在修还不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3301920"/>
            <a:ext cx="87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他赶快堵上那个窟窿，把羊圈修得结结实实的。从此，他的羊再也没丢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6480" y="4772160"/>
            <a:ext cx="144360" cy="144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4772160"/>
            <a:ext cx="144360" cy="144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4757760"/>
            <a:ext cx="144360" cy="144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4743360"/>
            <a:ext cx="144720" cy="14472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36960" y="4008600"/>
            <a:ext cx="144360" cy="144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14760" y="3994200"/>
            <a:ext cx="144720" cy="144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9080" y="360360"/>
            <a:ext cx="4319280" cy="1825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00360" y="148608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Arial"/>
                <a:ea typeface="楷体_GB2312"/>
              </a:rPr>
              <a:t>小辩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6920" y="2494080"/>
            <a:ext cx="1209960" cy="1511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-58651920" y="-84348720"/>
            <a:ext cx="15321240" cy="13757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00000" y="4365720"/>
            <a:ext cx="1216080" cy="1092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11280" y="4438800"/>
            <a:ext cx="64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Arial"/>
              </a:rPr>
              <a:t>我不喜欢养羊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2781360"/>
            <a:ext cx="56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Arial"/>
              </a:rPr>
              <a:t>我喜欢养羊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ee6"/>
          </a:solidFill>
          <a:ln w="9360">
            <a:solidFill>
              <a:srgbClr val="fafd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3132000" cy="2349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39189" r="0" b="0"/>
          <a:stretch/>
        </p:blipFill>
        <p:spPr>
          <a:xfrm>
            <a:off x="0" y="4654440"/>
            <a:ext cx="3132000" cy="2230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9196"/>
          <a:stretch/>
        </p:blipFill>
        <p:spPr>
          <a:xfrm>
            <a:off x="0" y="2448000"/>
            <a:ext cx="3132000" cy="2133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76720" y="1628640"/>
            <a:ext cx="55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这些窟窿就像是我们同学身上的缺点，又该怎么办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9648800">
            <a:off x="601200" y="3693960"/>
            <a:ext cx="4176720" cy="208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0091" r="0" b="0"/>
          <a:stretch/>
        </p:blipFill>
        <p:spPr>
          <a:xfrm>
            <a:off x="1332000" y="0"/>
            <a:ext cx="6516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4755600">
            <a:off x="1824840" y="3510360"/>
            <a:ext cx="3121200" cy="1084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16200000">
            <a:off x="2159640" y="2817000"/>
            <a:ext cx="4105440" cy="144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37309" r="0" b="0"/>
          <a:stretch/>
        </p:blipFill>
        <p:spPr>
          <a:xfrm>
            <a:off x="0" y="4869000"/>
            <a:ext cx="2711520" cy="198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9222" t="0" r="0" b="20270"/>
          <a:stretch/>
        </p:blipFill>
        <p:spPr>
          <a:xfrm>
            <a:off x="6300720" y="4984920"/>
            <a:ext cx="2843280" cy="187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1969920"/>
            <a:ext cx="547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3333ff"/>
                </a:solidFill>
                <a:latin typeface="Arial"/>
              </a:rPr>
              <a:t>窟 窿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2360" y="804960"/>
            <a:ext cx="187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33cc"/>
                </a:solidFill>
                <a:latin typeface="Arial"/>
              </a:rPr>
              <a:t>kū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1440" y="804960"/>
            <a:ext cx="36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33cc"/>
                </a:solidFill>
                <a:latin typeface="Arial"/>
              </a:rPr>
              <a:t>lo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95280" y="549360"/>
                <a:ext cx="8280360" cy="71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400000">
                <a:off x="-71640" y="3176280"/>
                <a:ext cx="547200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1187280" y="0"/>
              <a:ext cx="36007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1374840" y="231840"/>
              <a:ext cx="3168720" cy="51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黑体"/>
                </a:rPr>
                <a:t>识字乐园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  <a:ea typeface="黑体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68360" y="1700280"/>
            <a:ext cx="7993080" cy="40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ff"/>
                </a:solidFill>
                <a:latin typeface="Arial"/>
              </a:rPr>
              <a:t>羊圈   窟窿   叼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ff"/>
                </a:solidFill>
                <a:latin typeface="Arial"/>
              </a:rPr>
              <a:t>街坊   劝告   后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100188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juàn    kū long   diā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70828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3645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jiē fang  quàn              hu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7920" y="12600"/>
            <a:ext cx="9144000" cy="6858000"/>
            <a:chOff x="-7920" y="12600"/>
            <a:chExt cx="914400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-7920" y="12600"/>
              <a:ext cx="9144000" cy="6858000"/>
              <a:chOff x="-7920" y="12600"/>
              <a:chExt cx="9144000" cy="6858000"/>
            </a:xfrm>
          </p:grpSpPr>
          <p:pic>
            <p:nvPicPr>
              <p:cNvPr id="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-7920" y="1260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387360" y="561960"/>
                <a:ext cx="8280360" cy="71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400000">
                <a:off x="-79560" y="3188880"/>
                <a:ext cx="547200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179360" y="12600"/>
              <a:ext cx="36007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1366920" y="244440"/>
              <a:ext cx="3168720" cy="51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黑体"/>
                </a:rPr>
                <a:t>识字乐园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  <a:ea typeface="黑体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60440" y="1712880"/>
            <a:ext cx="7993080" cy="40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ff"/>
                </a:solidFill>
                <a:latin typeface="Arial"/>
              </a:rPr>
              <a:t>羊圈   窟窿   叼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ff"/>
                </a:solidFill>
                <a:latin typeface="Arial"/>
              </a:rPr>
              <a:t>街坊   劝告   后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3519600">
            <a:off x="4707000" y="4085640"/>
            <a:ext cx="1114560" cy="1096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549360"/>
            <a:ext cx="655164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94680" y="403200"/>
            <a:ext cx="17636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latin typeface="华文新魏"/>
              </a:rPr>
              <a:t>读一读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latin typeface="华文新魏"/>
              </a:rPr>
              <a:t>想一想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latin typeface="华文新魏"/>
              </a:rPr>
              <a:t>议一议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latin typeface="华文新魏"/>
              <a:ea typeface="华文新魏"/>
            </a:endParaRPr>
          </a:p>
        </p:txBody>
      </p:sp>
      <p:sp>
        <p:nvSpPr>
          <p:cNvPr id="80" name=""/>
          <p:cNvSpPr/>
          <p:nvPr/>
        </p:nvSpPr>
        <p:spPr>
          <a:xfrm>
            <a:off x="3132000" y="112536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我们一起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556000" y="4149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39640" y="2349360"/>
            <a:ext cx="792360" cy="747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32000" y="220500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我用     表示明白的地方，我愿意告诉你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25600" y="4105440"/>
            <a:ext cx="792000" cy="747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58920" y="400536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我用    表示我不懂的问题，我需要你的帮助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492280"/>
            <a:ext cx="936720" cy="216000"/>
          </a:xfrm>
          <a:custGeom>
            <a:avLst/>
            <a:gdLst/>
            <a:ahLst/>
            <a:rect l="l" t="t" r="r" b="b"/>
            <a:pathLst>
              <a:path w="590" h="136">
                <a:moveTo>
                  <a:pt x="0" y="136"/>
                </a:moveTo>
                <a:cubicBezTo>
                  <a:pt x="11" y="68"/>
                  <a:pt x="23" y="0"/>
                  <a:pt x="46" y="0"/>
                </a:cubicBezTo>
                <a:cubicBezTo>
                  <a:pt x="69" y="0"/>
                  <a:pt x="113" y="136"/>
                  <a:pt x="136" y="136"/>
                </a:cubicBezTo>
                <a:cubicBezTo>
                  <a:pt x="159" y="136"/>
                  <a:pt x="159" y="0"/>
                  <a:pt x="182" y="0"/>
                </a:cubicBezTo>
                <a:cubicBezTo>
                  <a:pt x="205" y="0"/>
                  <a:pt x="249" y="136"/>
                  <a:pt x="272" y="136"/>
                </a:cubicBezTo>
                <a:cubicBezTo>
                  <a:pt x="295" y="136"/>
                  <a:pt x="295" y="0"/>
                  <a:pt x="318" y="0"/>
                </a:cubicBezTo>
                <a:cubicBezTo>
                  <a:pt x="341" y="0"/>
                  <a:pt x="386" y="136"/>
                  <a:pt x="409" y="136"/>
                </a:cubicBezTo>
                <a:cubicBezTo>
                  <a:pt x="432" y="136"/>
                  <a:pt x="431" y="0"/>
                  <a:pt x="454" y="0"/>
                </a:cubicBezTo>
                <a:cubicBezTo>
                  <a:pt x="477" y="0"/>
                  <a:pt x="522" y="136"/>
                  <a:pt x="545" y="136"/>
                </a:cubicBezTo>
                <a:cubicBezTo>
                  <a:pt x="568" y="136"/>
                  <a:pt x="583" y="23"/>
                  <a:pt x="59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2:55:05Z</dcterms:created>
  <dc:creator>李华</dc:creator>
  <dc:description/>
  <dc:language>en-US</dc:language>
  <cp:lastModifiedBy>User</cp:lastModifiedBy>
  <dcterms:modified xsi:type="dcterms:W3CDTF">2014-12-04T14:28:29Z</dcterms:modified>
  <cp:revision>14</cp:revision>
  <dc:subject/>
  <dc:title>幻灯片 1</dc:title>
</cp:coreProperties>
</file>