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typ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D3C8-5198-4887-9930-B129A3A16A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A8CD-55ED-40FA-A3A8-A9CADE88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A424-6669-4C82-8741-89001532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3D20-D58B-4CA9-BD37-8C32424E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0A6E-C3A4-4893-838C-B98D2F47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C73F-915E-4259-AC8C-6DAFC161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C810-F675-48D4-92E1-3E3CC9C8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06D8-2926-4E22-94F5-F7EB2258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92E3-2CD6-495B-B2EE-12A58249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52B-2443-485F-AC6D-2DD60E23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AE5E-322E-4921-B815-B1EACD54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980-BC5A-432B-994C-05CB00DB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281-D7E9-49A4-93B8-47EE7AC3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5BF0-7191-4310-9F75-817F88EBB1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F%A8&#872;%BB&#245;%C6&#428;%B1%B3%BE%B0&#892;&#428;&amp;in=10353&amp;cl=2&amp;cm=1&amp;sc=0&amp;lm=-1&amp;pn=0&amp;rn=1&amp;di=10469366370&amp;ln=270&amp;fr=ala0&amp;ic=0&amp;s=0&amp;se=1" TargetMode="External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F%A8&#872;%BB&#245;%C6&#428;%B1%B3%BE%B0&#892;&#428;&amp;in=10353&amp;cl=2&amp;cm=1&amp;sc=0&amp;lm=-1&amp;pn=0&amp;rn=1&amp;di=10469366370&amp;ln=270&amp;fr=ala0&amp;ic=0&amp;s=0&amp;se=1" TargetMode="External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91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第二次：（丢羊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后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不该不</a:t>
            </a: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接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街坊的劝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想，现在修还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不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5013360"/>
            <a:ext cx="1981080" cy="1641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5280" y="328464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赶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堵上那个窟窿，把羊圈修的结结实实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此，他的羊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再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丢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总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养羊人第一次丢了羊，街坊好心（      ），他却（            ），到第二次又丢了羊，他（　        　），赶快（　　       ）。从此，他的羊（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则寓言告诉我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  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一个人犯了错误，只要肯及时改正，就不算晚   。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48360" y="15573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ahoma"/>
              </a:rPr>
              <a:t>劝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198900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满不在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2421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后悔极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48000" y="2997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再也没丢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08280" y="2276640"/>
            <a:ext cx="184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修补羊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96000" y="6400800"/>
            <a:ext cx="2489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92,-9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0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92,-9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0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9640" y="907920"/>
            <a:ext cx="6840360" cy="1944720"/>
          </a:xfrm>
          <a:prstGeom prst="cloudCallout">
            <a:avLst>
              <a:gd name="adj1" fmla="val -31759"/>
              <a:gd name="adj2" fmla="val 183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Arial"/>
              </a:rPr>
              <a:t>亡羊补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</a:rPr>
              <a:t>自由读课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89000"/>
            <a:ext cx="3456000" cy="244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看看哪位小朋友读得最认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我会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417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羊圈       窟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窿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街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劝告      叼走     后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141300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1484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j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1484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88000" y="148428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4076640"/>
            <a:ext cx="2664000" cy="1152720"/>
          </a:xfrm>
          <a:prstGeom prst="cloudCallout">
            <a:avLst>
              <a:gd name="adj1" fmla="val -44754"/>
              <a:gd name="adj2" fmla="val 5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我读得最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</a:rPr>
              <a:t>理解“亡羊补牢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215892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亡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9120" y="3903840"/>
            <a:ext cx="22525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牢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2535120"/>
            <a:ext cx="2232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补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1341360"/>
            <a:ext cx="2158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丢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59280" y="2492280"/>
            <a:ext cx="2232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修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3860640"/>
            <a:ext cx="225288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羊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小故事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自己的话把这个故事讲给大家听一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评一评，谁说得最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说一说：</a:t>
            </a:r>
            <a:br>
              <a:rPr sz="4000"/>
            </a:b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    狼为什么把羊叼走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19890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原来羊圈破了个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窟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夜里狼从窟窿钻进去，把那只羊叼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3933720"/>
            <a:ext cx="7704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练一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你能给这句话加上“因为……所以……”再把它说一遍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195280" y="1341000"/>
            <a:ext cx="1655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邻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6840" y="1133280"/>
            <a:ext cx="17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街坊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22352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</a:rPr>
              <a:t>找一找：他说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32194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赶快把羊圈修一修，堵上那个窟窿吧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5164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羊已经丢了，还修羊圈干什么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2560" y="3870360"/>
            <a:ext cx="69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养羊人怎么回答他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476280"/>
            <a:ext cx="8137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第一次：（丢羊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第二次：（丢羊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天早上，他去放羊，发现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少了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。原来狼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窟窿钻进去，把羊叼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724280"/>
            <a:ext cx="1333440" cy="11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2:44:16Z</dcterms:created>
  <dc:creator>微软中国</dc:creator>
  <dc:description/>
  <dc:language>en-US</dc:language>
  <cp:lastModifiedBy>User</cp:lastModifiedBy>
  <dcterms:modified xsi:type="dcterms:W3CDTF">2014-12-04T14:28:11Z</dcterms:modified>
  <cp:revision>5</cp:revision>
  <dc:subject/>
  <dc:title>幻灯片 1</dc:title>
</cp:coreProperties>
</file>