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type.wav" ContentType="audio/x-wav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238C-0395-4809-B1C1-A4CA02A6540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DB91-559C-4D84-BE27-B7B08AE6A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A50C-B103-4D0D-9414-308B7C28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EDFB-F9A9-4851-911A-23F1467C8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ACA9-8D1C-4C5C-96A6-249BD052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1D02-C602-4931-8A5F-D762F699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8006-E09F-4119-AF3A-35E9F7F1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5755-A189-4C5C-8953-6C2C0813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3ED5-F9A1-4116-A89E-1EB9DD4E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0A6A-1361-4596-A91E-BDF327A1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2201-E3F4-4E88-9144-5A99C3D1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C146-8B7C-44B4-8988-9DE24AA4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082B-284A-4987-98C0-6B7156AE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01DB-E52E-4B74-A4D0-F252087CDD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F%A8&#872;%BB&#245;%C6&#428;%B1%B3%BE%B0&#892;&#428;&amp;in=10353&amp;cl=2&amp;cm=1&amp;sc=0&amp;lm=-1&amp;pn=0&amp;rn=1&amp;di=10469366370&amp;ln=270&amp;fr=ala0&amp;ic=0&amp;s=0&amp;se=1" TargetMode="External"/><Relationship Id="rId3" Type="http://schemas.openxmlformats.org/officeDocument/2006/relationships/image" Target="../media/image2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"/>
              <a:ea typeface="黑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197000"/>
            <a:ext cx="7812000" cy="19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窟 窿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劝 告  叼 走  羊 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549360"/>
            <a:ext cx="302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32000" y="476280"/>
            <a:ext cx="79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kūlong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quàn   di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ā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o     juà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32000" y="292428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街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23493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92720" y="1197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51960" y="2276640"/>
            <a:ext cx="146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fa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10160" y="2859120"/>
            <a:ext cx="314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寓言  亡羊补牢  后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0"/>
            <a:ext cx="18288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会读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9" name=""/>
          <p:cNvSpPr/>
          <p:nvPr/>
        </p:nvSpPr>
        <p:spPr>
          <a:xfrm>
            <a:off x="2796120" y="655308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由此可见：像养羊人这样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犯了错误，只要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就不算晚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7640" y="2276640"/>
            <a:ext cx="30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61200"/>
                </a:solidFill>
                <a:latin typeface="Arial"/>
              </a:rPr>
              <a:t>及时改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95840" y="407664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亡羊补牢，未为迟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564000" y="2673360"/>
            <a:ext cx="5580000" cy="4184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5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在实际生活中，也常常发生类似的事，你能举例说说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314172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亡羊补牢，未为迟也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14040" y="2565360"/>
            <a:ext cx="339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61200"/>
                </a:solidFill>
                <a:latin typeface="Arial"/>
              </a:rPr>
              <a:t>寓  窟   窿  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44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养羊人第一次丢了羊，街坊好心（      ），他却（            ），到第二次又丢了羊，他（　        　），赶快（　　       ）。从此，他的羊（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则寓言告诉我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  </a:t>
            </a:r>
            <a:r>
              <a:rPr b="0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一个人做错了事，只要肯接受意见，认真改正，就不算晚   。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198900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ahoma"/>
              </a:rPr>
              <a:t>劝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8000" y="234936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满不在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58920" y="2924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后悔极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48000" y="342900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再也没丢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08280" y="2637000"/>
            <a:ext cx="184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修补羊圈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96000" y="6400800"/>
            <a:ext cx="2489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92,-9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0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92,-9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0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3080" y="1989000"/>
            <a:ext cx="578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窟    窿    叼    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91440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20000" y="5084640"/>
            <a:ext cx="1333440" cy="1105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132720" y="1268280"/>
            <a:ext cx="264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默读课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边读边想养羊人丢了一只羊，为什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还会丢第二只羊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24560" y="3933720"/>
            <a:ext cx="25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羊圈破了个窟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04040" y="4941720"/>
            <a:ext cx="231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听街坊劝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原来羊圈破了个窟窿，夜里狼从窟窿钻进去，把那只羊叼走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15772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70640" y="1557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61200"/>
                </a:solidFill>
                <a:latin typeface="Arial"/>
              </a:rPr>
              <a:t>窟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448560"/>
            <a:ext cx="8137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5724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街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赶快把羊圈修一修，堵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那个窟窿吧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说：“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已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丢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修羊圈干什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呢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093080" y="4724280"/>
            <a:ext cx="1333440" cy="1105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68360" y="522936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天早上，他去放羊，发现羊</a:t>
            </a:r>
            <a:r>
              <a:rPr b="1" lang="zh-CN" sz="4000" spc="-1" strike="noStrike">
                <a:solidFill>
                  <a:srgbClr val="f61200"/>
                </a:solidFill>
                <a:latin typeface="Arial"/>
              </a:rPr>
              <a:t>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少了一只。原来狼</a:t>
            </a:r>
            <a:r>
              <a:rPr b="1" lang="zh-CN" sz="4000" spc="-1" strike="noStrike">
                <a:solidFill>
                  <a:srgbClr val="f61200"/>
                </a:solidFill>
                <a:latin typeface="Arial"/>
              </a:rPr>
              <a:t>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窟窿钻进去，把羊叼走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900000" y="5157720"/>
            <a:ext cx="7848720" cy="144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很后悔，不该不接受街坊的劝告，心想，现在修还不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32640" y="5445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16000" y="553068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1" lang="zh-CN" sz="3200" spc="-1" strike="noStrike">
                <a:solidFill>
                  <a:srgbClr val="f61200"/>
                </a:solidFill>
                <a:latin typeface="Arial"/>
              </a:rPr>
              <a:t>赶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堵上那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窟窿，把羊圈修得结结实实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236016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61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61200"/>
                </a:solidFill>
                <a:latin typeface="Arial"/>
              </a:rPr>
              <a:t>从此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他的羊</a:t>
            </a:r>
            <a:r>
              <a:rPr b="1" lang="zh-CN" sz="4800" spc="-1" strike="noStrike">
                <a:solidFill>
                  <a:srgbClr val="f61200"/>
                </a:solidFill>
                <a:latin typeface="Arial"/>
              </a:rPr>
              <a:t>再也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没丢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2T16:00:29Z</dcterms:created>
  <dc:creator>Administrators</dc:creator>
  <dc:description/>
  <dc:language>en-US</dc:language>
  <cp:lastModifiedBy>User</cp:lastModifiedBy>
  <dcterms:modified xsi:type="dcterms:W3CDTF">2014-12-04T14:29:01Z</dcterms:modified>
  <cp:revision>25</cp:revision>
  <dc:subject/>
  <dc:title>幻灯片 1</dc:title>
</cp:coreProperties>
</file>